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0408-D713-4334-9C1B-3DC05FB6E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E4DC-036C-48E6-8C52-CE9BD8DAE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DCC-7887-40B3-8656-EB3E73BD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549B-4B6C-4156-A779-3A91898D2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EA70-14B9-4473-B6DC-79EF8148E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3C13-54A9-4CB8-8CAA-AF86AF58B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6E79-A3CF-4B5B-B647-8C193D1A3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E54A-7052-413C-909F-C18FFF46A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109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3D6-8E89-47C3-B68E-40AEE0471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94BB-EA33-467A-8AD3-0EC564A6F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06DA-CF4D-4F7E-851D-3084D2A7B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9922-BBD7-483D-B22C-CEED57D2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7A9-90F2-409F-AC8D-248B934AA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8.xml"/><Relationship Id="rId13" Type="http://schemas.openxmlformats.org/officeDocument/2006/relationships/slide" Target="slide17.xml"/><Relationship Id="rId14" Type="http://schemas.openxmlformats.org/officeDocument/2006/relationships/slide" Target="slide7.xml"/><Relationship Id="rId15" Type="http://schemas.openxmlformats.org/officeDocument/2006/relationships/slide" Target="slide6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52388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xter Ban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160" y="876240"/>
            <a:ext cx="9067680" cy="2222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cc"/>
                </a:solidFill>
                <a:latin typeface="Impact"/>
                <a:ea typeface="Impact"/>
              </a:rPr>
              <a:t>Jeopardy!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313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977760" y="1143000"/>
            <a:ext cx="7162920" cy="4038480"/>
            <a:chOff x="977760" y="1143000"/>
            <a:chExt cx="7162920" cy="4038480"/>
          </a:xfrm>
        </p:grpSpPr>
        <p:sp>
          <p:nvSpPr>
            <p:cNvPr id="323" name=""/>
            <p:cNvSpPr/>
            <p:nvPr/>
          </p:nvSpPr>
          <p:spPr>
            <a:xfrm>
              <a:off x="977760" y="114300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9600" y="1942920"/>
              <a:ext cx="59774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hottest it has gotten i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dney, Australia is what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990720" y="15228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6 degrees Farenh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328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977760" y="1143000"/>
            <a:ext cx="7162920" cy="4038480"/>
            <a:chOff x="977760" y="1143000"/>
            <a:chExt cx="7162920" cy="4038480"/>
          </a:xfrm>
        </p:grpSpPr>
        <p:sp>
          <p:nvSpPr>
            <p:cNvPr id="338" name=""/>
            <p:cNvSpPr/>
            <p:nvPr/>
          </p:nvSpPr>
          <p:spPr>
            <a:xfrm>
              <a:off x="977760" y="114300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54520" y="2552400"/>
              <a:ext cx="68079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aquatic mammal with a bi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 a ducks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y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343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990720" y="1219320"/>
            <a:ext cx="7162560" cy="4038480"/>
            <a:chOff x="990720" y="1219320"/>
            <a:chExt cx="7162560" cy="4038480"/>
          </a:xfrm>
        </p:grpSpPr>
        <p:sp>
          <p:nvSpPr>
            <p:cNvPr id="353" name=""/>
            <p:cNvSpPr/>
            <p:nvPr/>
          </p:nvSpPr>
          <p:spPr>
            <a:xfrm>
              <a:off x="990720" y="1219320"/>
              <a:ext cx="716256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520" y="2628720"/>
              <a:ext cx="6076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mingtons is what type of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od 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ge c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495680" y="6019920"/>
            <a:ext cx="762120" cy="685800"/>
            <a:chOff x="4495680" y="6019920"/>
            <a:chExt cx="762120" cy="685800"/>
          </a:xfrm>
        </p:grpSpPr>
        <p:sp>
          <p:nvSpPr>
            <p:cNvPr id="358" name=""/>
            <p:cNvSpPr/>
            <p:nvPr/>
          </p:nvSpPr>
          <p:spPr>
            <a:xfrm>
              <a:off x="449568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9568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568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1496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9568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6236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1492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612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9568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14400" y="1143000"/>
            <a:ext cx="7162920" cy="4038480"/>
            <a:chOff x="914400" y="1143000"/>
            <a:chExt cx="7162920" cy="4038480"/>
          </a:xfrm>
        </p:grpSpPr>
        <p:sp>
          <p:nvSpPr>
            <p:cNvPr id="368" name=""/>
            <p:cNvSpPr/>
            <p:nvPr/>
          </p:nvSpPr>
          <p:spPr>
            <a:xfrm>
              <a:off x="914400" y="1143000"/>
              <a:ext cx="716292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120" y="2857320"/>
              <a:ext cx="6925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an Icy Pole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s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419720" y="5943600"/>
            <a:ext cx="761760" cy="685800"/>
            <a:chOff x="4419720" y="5943600"/>
            <a:chExt cx="761760" cy="685800"/>
          </a:xfrm>
        </p:grpSpPr>
        <p:sp>
          <p:nvSpPr>
            <p:cNvPr id="373" name=""/>
            <p:cNvSpPr/>
            <p:nvPr/>
          </p:nvSpPr>
          <p:spPr>
            <a:xfrm>
              <a:off x="4419720" y="594360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720" y="594360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9720" y="594360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8640" y="594360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19720" y="658656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6040" y="607212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38600" y="628668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9800" y="609768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594360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38080" y="1130400"/>
            <a:ext cx="7162920" cy="4038480"/>
            <a:chOff x="838080" y="1130400"/>
            <a:chExt cx="7162920" cy="4038480"/>
          </a:xfrm>
        </p:grpSpPr>
        <p:sp>
          <p:nvSpPr>
            <p:cNvPr id="383" name=""/>
            <p:cNvSpPr/>
            <p:nvPr/>
          </p:nvSpPr>
          <p:spPr>
            <a:xfrm>
              <a:off x="838080" y="113040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73040" y="2539800"/>
              <a:ext cx="6091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the average temp f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ter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38080" y="34308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-75 degrees fa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48320" y="6019920"/>
            <a:ext cx="761760" cy="685800"/>
            <a:chOff x="4648320" y="6019920"/>
            <a:chExt cx="761760" cy="685800"/>
          </a:xfrm>
        </p:grpSpPr>
        <p:sp>
          <p:nvSpPr>
            <p:cNvPr id="388" name=""/>
            <p:cNvSpPr/>
            <p:nvPr/>
          </p:nvSpPr>
          <p:spPr>
            <a:xfrm>
              <a:off x="46483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72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146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672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84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83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974520" y="1663560"/>
            <a:ext cx="7167600" cy="4038480"/>
            <a:chOff x="974520" y="1663560"/>
            <a:chExt cx="7167600" cy="4038480"/>
          </a:xfrm>
        </p:grpSpPr>
        <p:sp>
          <p:nvSpPr>
            <p:cNvPr id="398" name=""/>
            <p:cNvSpPr/>
            <p:nvPr/>
          </p:nvSpPr>
          <p:spPr>
            <a:xfrm>
              <a:off x="976320" y="1663560"/>
              <a:ext cx="716400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74520" y="3072960"/>
              <a:ext cx="7167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animal is called Australian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d dog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99072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03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1066680"/>
            <a:ext cx="7162920" cy="4038480"/>
            <a:chOff x="914400" y="1066680"/>
            <a:chExt cx="7162920" cy="4038480"/>
          </a:xfrm>
        </p:grpSpPr>
        <p:sp>
          <p:nvSpPr>
            <p:cNvPr id="413" name=""/>
            <p:cNvSpPr/>
            <p:nvPr/>
          </p:nvSpPr>
          <p:spPr>
            <a:xfrm>
              <a:off x="914400" y="106668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06200" y="2171520"/>
              <a:ext cx="69771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we call Rice Crispies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called what t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343400" y="6019920"/>
            <a:ext cx="762120" cy="685800"/>
            <a:chOff x="4343400" y="6019920"/>
            <a:chExt cx="762120" cy="685800"/>
          </a:xfrm>
        </p:grpSpPr>
        <p:sp>
          <p:nvSpPr>
            <p:cNvPr id="418" name=""/>
            <p:cNvSpPr/>
            <p:nvPr/>
          </p:nvSpPr>
          <p:spPr>
            <a:xfrm>
              <a:off x="434340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340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4340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268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4340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1008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6264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384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340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990720" y="1066680"/>
            <a:ext cx="7162560" cy="4038480"/>
            <a:chOff x="990720" y="1066680"/>
            <a:chExt cx="7162560" cy="4038480"/>
          </a:xfrm>
        </p:grpSpPr>
        <p:sp>
          <p:nvSpPr>
            <p:cNvPr id="428" name=""/>
            <p:cNvSpPr/>
            <p:nvPr/>
          </p:nvSpPr>
          <p:spPr>
            <a:xfrm>
              <a:off x="990720" y="106668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89000" y="2781000"/>
              <a:ext cx="6963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Maccas mean t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Donal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572000" y="5943600"/>
            <a:ext cx="762120" cy="685800"/>
            <a:chOff x="4572000" y="5943600"/>
            <a:chExt cx="762120" cy="685800"/>
          </a:xfrm>
        </p:grpSpPr>
        <p:sp>
          <p:nvSpPr>
            <p:cNvPr id="433" name=""/>
            <p:cNvSpPr/>
            <p:nvPr/>
          </p:nvSpPr>
          <p:spPr>
            <a:xfrm>
              <a:off x="457200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7200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200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9128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7200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3868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124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244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7200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977760" y="1397160"/>
            <a:ext cx="7162920" cy="4038480"/>
            <a:chOff x="977760" y="1397160"/>
            <a:chExt cx="7162920" cy="4038480"/>
          </a:xfrm>
        </p:grpSpPr>
        <p:sp>
          <p:nvSpPr>
            <p:cNvPr id="443" name=""/>
            <p:cNvSpPr/>
            <p:nvPr/>
          </p:nvSpPr>
          <p:spPr>
            <a:xfrm>
              <a:off x="977760" y="139716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84560" y="2502000"/>
              <a:ext cx="6347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part of Australia has ho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ers and cold winters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top, middle or bottom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48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952560" y="1523880"/>
            <a:ext cx="7162920" cy="4038480"/>
            <a:chOff x="952560" y="1523880"/>
            <a:chExt cx="7162920" cy="4038480"/>
          </a:xfrm>
        </p:grpSpPr>
        <p:sp>
          <p:nvSpPr>
            <p:cNvPr id="458" name=""/>
            <p:cNvSpPr/>
            <p:nvPr/>
          </p:nvSpPr>
          <p:spPr>
            <a:xfrm>
              <a:off x="952560" y="152388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1280" y="2933280"/>
              <a:ext cx="5683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animal that looks a lo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 a Kangaro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99072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ccff"/>
            </a:gs>
            <a:gs pos="100000">
              <a:srgbClr val="165d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0920" y="1143000"/>
            <a:ext cx="1371600" cy="914400"/>
            <a:chOff x="2590920" y="1143000"/>
            <a:chExt cx="1371600" cy="914400"/>
          </a:xfrm>
        </p:grpSpPr>
        <p:sp>
          <p:nvSpPr>
            <p:cNvPr id="42" name=""/>
            <p:cNvSpPr/>
            <p:nvPr/>
          </p:nvSpPr>
          <p:spPr>
            <a:xfrm>
              <a:off x="2590920" y="1143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0920" y="1143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90920" y="1143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05280" y="1143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90920" y="2000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9092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0088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1143000"/>
            <a:ext cx="1371600" cy="914400"/>
            <a:chOff x="4952880" y="1143000"/>
            <a:chExt cx="1371600" cy="914400"/>
          </a:xfrm>
        </p:grpSpPr>
        <p:sp>
          <p:nvSpPr>
            <p:cNvPr id="50" name=""/>
            <p:cNvSpPr/>
            <p:nvPr/>
          </p:nvSpPr>
          <p:spPr>
            <a:xfrm>
              <a:off x="4952880" y="114300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2880" y="114300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114300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67240" y="114300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52880" y="200016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5288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284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2286000"/>
            <a:ext cx="1371600" cy="914400"/>
            <a:chOff x="2590920" y="2286000"/>
            <a:chExt cx="1371600" cy="914400"/>
          </a:xfrm>
        </p:grpSpPr>
        <p:sp>
          <p:nvSpPr>
            <p:cNvPr id="58" name=""/>
            <p:cNvSpPr/>
            <p:nvPr/>
          </p:nvSpPr>
          <p:spPr>
            <a:xfrm>
              <a:off x="2590920" y="2286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2286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5280" y="2286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43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0920" y="2286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0880" y="2461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3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162920" y="2209680"/>
            <a:ext cx="1371600" cy="914400"/>
            <a:chOff x="7162920" y="2209680"/>
            <a:chExt cx="1371600" cy="914400"/>
          </a:xfrm>
        </p:grpSpPr>
        <p:sp>
          <p:nvSpPr>
            <p:cNvPr id="66" name=""/>
            <p:cNvSpPr/>
            <p:nvPr/>
          </p:nvSpPr>
          <p:spPr>
            <a:xfrm>
              <a:off x="7162920" y="2209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62920" y="2209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920" y="2209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209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62920" y="3066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920" y="2209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72880" y="2385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0880" y="4495680"/>
            <a:ext cx="1371600" cy="914400"/>
            <a:chOff x="380880" y="4495680"/>
            <a:chExt cx="1371600" cy="914400"/>
          </a:xfrm>
        </p:grpSpPr>
        <p:sp>
          <p:nvSpPr>
            <p:cNvPr id="74" name=""/>
            <p:cNvSpPr/>
            <p:nvPr/>
          </p:nvSpPr>
          <p:spPr>
            <a:xfrm>
              <a:off x="380880" y="4495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4495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4495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5240" y="4495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0880" y="5352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88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84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90920" y="4495680"/>
            <a:ext cx="1371600" cy="914400"/>
            <a:chOff x="2590920" y="4495680"/>
            <a:chExt cx="1371600" cy="914400"/>
          </a:xfrm>
        </p:grpSpPr>
        <p:sp>
          <p:nvSpPr>
            <p:cNvPr id="82" name=""/>
            <p:cNvSpPr/>
            <p:nvPr/>
          </p:nvSpPr>
          <p:spPr>
            <a:xfrm>
              <a:off x="2590920" y="449568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449568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449568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05280" y="449568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535284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088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6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162920" y="3352680"/>
            <a:ext cx="1371600" cy="914400"/>
            <a:chOff x="7162920" y="3352680"/>
            <a:chExt cx="1371600" cy="914400"/>
          </a:xfrm>
        </p:grpSpPr>
        <p:sp>
          <p:nvSpPr>
            <p:cNvPr id="90" name=""/>
            <p:cNvSpPr/>
            <p:nvPr/>
          </p:nvSpPr>
          <p:spPr>
            <a:xfrm>
              <a:off x="7162920" y="3352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2920" y="3352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3352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77280" y="3352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2920" y="4209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292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7288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7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1371600" cy="914400"/>
            <a:chOff x="7162920" y="4495680"/>
            <a:chExt cx="1371600" cy="91440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62920" y="4495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2920" y="4495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7280" y="4495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5352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7288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8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0880" y="1143000"/>
            <a:ext cx="1371600" cy="914400"/>
            <a:chOff x="380880" y="1143000"/>
            <a:chExt cx="1371600" cy="914400"/>
          </a:xfrm>
        </p:grpSpPr>
        <p:sp>
          <p:nvSpPr>
            <p:cNvPr id="106" name=""/>
            <p:cNvSpPr/>
            <p:nvPr/>
          </p:nvSpPr>
          <p:spPr>
            <a:xfrm>
              <a:off x="380880" y="114300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114300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114300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5240" y="114300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200016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120" y="1200240"/>
              <a:ext cx="12571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3352680"/>
            <a:ext cx="1371600" cy="914400"/>
            <a:chOff x="380880" y="3352680"/>
            <a:chExt cx="1371600" cy="914400"/>
          </a:xfrm>
        </p:grpSpPr>
        <p:sp>
          <p:nvSpPr>
            <p:cNvPr id="114" name=""/>
            <p:cNvSpPr/>
            <p:nvPr/>
          </p:nvSpPr>
          <p:spPr>
            <a:xfrm>
              <a:off x="380880" y="3352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3352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3352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5240" y="3352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209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88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84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9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90920" y="3429000"/>
            <a:ext cx="1371600" cy="914400"/>
            <a:chOff x="2590920" y="3429000"/>
            <a:chExt cx="1371600" cy="914400"/>
          </a:xfrm>
        </p:grpSpPr>
        <p:sp>
          <p:nvSpPr>
            <p:cNvPr id="122" name=""/>
            <p:cNvSpPr/>
            <p:nvPr/>
          </p:nvSpPr>
          <p:spPr>
            <a:xfrm>
              <a:off x="2590920" y="3429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3429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3429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05280" y="3429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4286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429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0880" y="3604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952880" y="3352680"/>
            <a:ext cx="1371600" cy="914400"/>
            <a:chOff x="4952880" y="3352680"/>
            <a:chExt cx="1371600" cy="914400"/>
          </a:xfrm>
        </p:grpSpPr>
        <p:sp>
          <p:nvSpPr>
            <p:cNvPr id="130" name=""/>
            <p:cNvSpPr/>
            <p:nvPr/>
          </p:nvSpPr>
          <p:spPr>
            <a:xfrm>
              <a:off x="4952880" y="3352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52880" y="3352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3352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7240" y="3352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4209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6284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1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52880" y="2209680"/>
            <a:ext cx="1371600" cy="914400"/>
            <a:chOff x="4952880" y="2209680"/>
            <a:chExt cx="1371600" cy="914400"/>
          </a:xfrm>
        </p:grpSpPr>
        <p:sp>
          <p:nvSpPr>
            <p:cNvPr id="138" name=""/>
            <p:cNvSpPr/>
            <p:nvPr/>
          </p:nvSpPr>
          <p:spPr>
            <a:xfrm>
              <a:off x="4952880" y="2209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209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209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7240" y="2209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3066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52880" y="2209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2840" y="2385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2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52880" y="4495680"/>
            <a:ext cx="1371600" cy="914400"/>
            <a:chOff x="4952880" y="4495680"/>
            <a:chExt cx="1371600" cy="914400"/>
          </a:xfrm>
        </p:grpSpPr>
        <p:sp>
          <p:nvSpPr>
            <p:cNvPr id="146" name=""/>
            <p:cNvSpPr/>
            <p:nvPr/>
          </p:nvSpPr>
          <p:spPr>
            <a:xfrm>
              <a:off x="4952880" y="4495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4495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4495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67240" y="4495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5352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6284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3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880" y="2286000"/>
            <a:ext cx="1371600" cy="914400"/>
            <a:chOff x="380880" y="2286000"/>
            <a:chExt cx="1371600" cy="914400"/>
          </a:xfrm>
        </p:grpSpPr>
        <p:sp>
          <p:nvSpPr>
            <p:cNvPr id="154" name=""/>
            <p:cNvSpPr/>
            <p:nvPr/>
          </p:nvSpPr>
          <p:spPr>
            <a:xfrm>
              <a:off x="380880" y="228600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880" y="228600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28600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95240" y="228600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314316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2286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840" y="2461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4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162920" y="1143000"/>
            <a:ext cx="1371600" cy="914400"/>
            <a:chOff x="7162920" y="1143000"/>
            <a:chExt cx="1371600" cy="914400"/>
          </a:xfrm>
        </p:grpSpPr>
        <p:sp>
          <p:nvSpPr>
            <p:cNvPr id="162" name=""/>
            <p:cNvSpPr/>
            <p:nvPr/>
          </p:nvSpPr>
          <p:spPr>
            <a:xfrm>
              <a:off x="7162920" y="114300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114300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62920" y="114300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77280" y="114300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00016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7288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5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0880" y="5638680"/>
            <a:ext cx="1371600" cy="914400"/>
            <a:chOff x="380880" y="5638680"/>
            <a:chExt cx="1371600" cy="914400"/>
          </a:xfrm>
        </p:grpSpPr>
        <p:sp>
          <p:nvSpPr>
            <p:cNvPr id="170" name=""/>
            <p:cNvSpPr/>
            <p:nvPr/>
          </p:nvSpPr>
          <p:spPr>
            <a:xfrm>
              <a:off x="380880" y="5638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638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5638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95240" y="5638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6495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084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90920" y="5638680"/>
            <a:ext cx="1371600" cy="914400"/>
            <a:chOff x="2590920" y="5638680"/>
            <a:chExt cx="1371600" cy="914400"/>
          </a:xfrm>
        </p:grpSpPr>
        <p:sp>
          <p:nvSpPr>
            <p:cNvPr id="178" name=""/>
            <p:cNvSpPr/>
            <p:nvPr/>
          </p:nvSpPr>
          <p:spPr>
            <a:xfrm>
              <a:off x="2590920" y="563868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920" y="563868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63868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05280" y="563868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0920" y="649584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0088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7" action="ppaction://hlinksldjump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952880" y="5638680"/>
            <a:ext cx="1371600" cy="914400"/>
            <a:chOff x="4952880" y="5638680"/>
            <a:chExt cx="1371600" cy="914400"/>
          </a:xfrm>
        </p:grpSpPr>
        <p:sp>
          <p:nvSpPr>
            <p:cNvPr id="186" name=""/>
            <p:cNvSpPr/>
            <p:nvPr/>
          </p:nvSpPr>
          <p:spPr>
            <a:xfrm>
              <a:off x="4952880" y="5638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880" y="5638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5638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67240" y="5638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6495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6284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3300"/>
                  </a:solidFill>
                  <a:uFillTx/>
                  <a:latin typeface="Times New Roman"/>
                  <a:ea typeface="Times New Roman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62920" y="5638680"/>
            <a:ext cx="1371600" cy="914400"/>
            <a:chOff x="7162920" y="5638680"/>
            <a:chExt cx="1371600" cy="914400"/>
          </a:xfrm>
        </p:grpSpPr>
        <p:sp>
          <p:nvSpPr>
            <p:cNvPr id="194" name=""/>
            <p:cNvSpPr/>
            <p:nvPr/>
          </p:nvSpPr>
          <p:spPr>
            <a:xfrm>
              <a:off x="7162920" y="5638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5638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5638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7280" y="5638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6495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7288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3300"/>
                  </a:solidFill>
                  <a:uFillTx/>
                  <a:latin typeface="Times New Roman"/>
                  <a:ea typeface="Times New Roman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09480" y="1371600"/>
            <a:ext cx="838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94600" y="507960"/>
            <a:ext cx="1307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40" y="520560"/>
            <a:ext cx="133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20560"/>
            <a:ext cx="139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73480" y="520560"/>
            <a:ext cx="1130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495680" y="5867280"/>
            <a:ext cx="762120" cy="685800"/>
            <a:chOff x="4495680" y="5867280"/>
            <a:chExt cx="762120" cy="685800"/>
          </a:xfrm>
        </p:grpSpPr>
        <p:sp>
          <p:nvSpPr>
            <p:cNvPr id="463" name=""/>
            <p:cNvSpPr/>
            <p:nvPr/>
          </p:nvSpPr>
          <p:spPr>
            <a:xfrm>
              <a:off x="4495680" y="586728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95680" y="586728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586728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14960" y="586728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95680" y="651024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62360" y="599580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14920" y="621036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6120" y="602136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95680" y="586728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990720" y="1143000"/>
            <a:ext cx="7162560" cy="4038480"/>
            <a:chOff x="990720" y="1143000"/>
            <a:chExt cx="7162560" cy="4038480"/>
          </a:xfrm>
        </p:grpSpPr>
        <p:sp>
          <p:nvSpPr>
            <p:cNvPr id="473" name=""/>
            <p:cNvSpPr/>
            <p:nvPr/>
          </p:nvSpPr>
          <p:spPr>
            <a:xfrm>
              <a:off x="990720" y="1143000"/>
              <a:ext cx="716256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0360" y="2552400"/>
              <a:ext cx="6260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a Sweet Potato called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78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61560" y="1219320"/>
            <a:ext cx="7219440" cy="4038480"/>
            <a:chOff x="961560" y="1219320"/>
            <a:chExt cx="7219440" cy="4038480"/>
          </a:xfrm>
        </p:grpSpPr>
        <p:sp>
          <p:nvSpPr>
            <p:cNvPr id="488" name=""/>
            <p:cNvSpPr/>
            <p:nvPr/>
          </p:nvSpPr>
          <p:spPr>
            <a:xfrm>
              <a:off x="988920" y="1219320"/>
              <a:ext cx="716292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1560" y="2933640"/>
              <a:ext cx="7219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Tea mean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06668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493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066680" y="1397160"/>
            <a:ext cx="7162920" cy="403848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83560" y="2806560"/>
            <a:ext cx="632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west temp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ed in Austral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 degrees fa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267080" y="6019920"/>
            <a:ext cx="762120" cy="685800"/>
            <a:chOff x="4267080" y="6019920"/>
            <a:chExt cx="762120" cy="685800"/>
          </a:xfrm>
        </p:grpSpPr>
        <p:sp>
          <p:nvSpPr>
            <p:cNvPr id="208" name=""/>
            <p:cNvSpPr/>
            <p:nvPr/>
          </p:nvSpPr>
          <p:spPr>
            <a:xfrm>
              <a:off x="426708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8636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708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3376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752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80880" y="1130400"/>
            <a:ext cx="8763120" cy="4038480"/>
            <a:chOff x="380880" y="1130400"/>
            <a:chExt cx="8763120" cy="4038480"/>
          </a:xfrm>
        </p:grpSpPr>
        <p:sp>
          <p:nvSpPr>
            <p:cNvPr id="218" name=""/>
            <p:cNvSpPr/>
            <p:nvPr/>
          </p:nvSpPr>
          <p:spPr>
            <a:xfrm>
              <a:off x="1181160" y="1130400"/>
              <a:ext cx="716256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2514600"/>
              <a:ext cx="87631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amous Australian animal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likes to kick peop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21932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g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23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988920" y="914400"/>
            <a:ext cx="7162920" cy="4038480"/>
            <a:chOff x="988920" y="914400"/>
            <a:chExt cx="7162920" cy="4038480"/>
          </a:xfrm>
        </p:grpSpPr>
        <p:sp>
          <p:nvSpPr>
            <p:cNvPr id="233" name=""/>
            <p:cNvSpPr/>
            <p:nvPr/>
          </p:nvSpPr>
          <p:spPr>
            <a:xfrm>
              <a:off x="988920" y="91440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1600" y="1714320"/>
              <a:ext cx="7119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use this spread like we us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anut Butte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06668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38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28880" y="977760"/>
            <a:ext cx="7162560" cy="4038480"/>
            <a:chOff x="1028880" y="977760"/>
            <a:chExt cx="7162560" cy="4038480"/>
          </a:xfrm>
        </p:grpSpPr>
        <p:sp>
          <p:nvSpPr>
            <p:cNvPr id="248" name=""/>
            <p:cNvSpPr/>
            <p:nvPr/>
          </p:nvSpPr>
          <p:spPr>
            <a:xfrm>
              <a:off x="1028880" y="97776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26920" y="2387160"/>
              <a:ext cx="57639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Chokke mean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6668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53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9080" y="1244520"/>
            <a:ext cx="7278840" cy="4038480"/>
            <a:chOff x="919080" y="1244520"/>
            <a:chExt cx="7278840" cy="4038480"/>
          </a:xfrm>
        </p:grpSpPr>
        <p:sp>
          <p:nvSpPr>
            <p:cNvPr id="263" name=""/>
            <p:cNvSpPr/>
            <p:nvPr/>
          </p:nvSpPr>
          <p:spPr>
            <a:xfrm>
              <a:off x="975960" y="1244520"/>
              <a:ext cx="716256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9080" y="2349360"/>
              <a:ext cx="727884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asons in Australia opposi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easons in the Norther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mishp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90720" y="228600"/>
            <a:ext cx="723888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14800" y="6019920"/>
            <a:ext cx="762120" cy="685800"/>
            <a:chOff x="4114800" y="6019920"/>
            <a:chExt cx="762120" cy="685800"/>
          </a:xfrm>
        </p:grpSpPr>
        <p:sp>
          <p:nvSpPr>
            <p:cNvPr id="268" name=""/>
            <p:cNvSpPr/>
            <p:nvPr/>
          </p:nvSpPr>
          <p:spPr>
            <a:xfrm>
              <a:off x="411480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3408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480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148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3404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524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14400" y="1104840"/>
            <a:ext cx="7162920" cy="4038480"/>
            <a:chOff x="914400" y="1104840"/>
            <a:chExt cx="7162920" cy="4038480"/>
          </a:xfrm>
        </p:grpSpPr>
        <p:sp>
          <p:nvSpPr>
            <p:cNvPr id="278" name=""/>
            <p:cNvSpPr/>
            <p:nvPr/>
          </p:nvSpPr>
          <p:spPr>
            <a:xfrm>
              <a:off x="914400" y="110484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00600" y="2514240"/>
              <a:ext cx="6588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mall mammal that looks li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mall Black Bear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manian De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96080" y="5638320"/>
            <a:ext cx="144792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267080" y="5943600"/>
            <a:ext cx="762120" cy="685800"/>
            <a:chOff x="4267080" y="5943600"/>
            <a:chExt cx="762120" cy="685800"/>
          </a:xfrm>
        </p:grpSpPr>
        <p:sp>
          <p:nvSpPr>
            <p:cNvPr id="283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670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63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670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337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863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75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14400" y="1066680"/>
            <a:ext cx="7162920" cy="4038480"/>
            <a:chOff x="914400" y="1066680"/>
            <a:chExt cx="7162920" cy="4038480"/>
          </a:xfrm>
        </p:grpSpPr>
        <p:sp>
          <p:nvSpPr>
            <p:cNvPr id="293" name=""/>
            <p:cNvSpPr/>
            <p:nvPr/>
          </p:nvSpPr>
          <p:spPr>
            <a:xfrm>
              <a:off x="914400" y="106668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6160" y="2476080"/>
              <a:ext cx="7077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Australia, Fish and Chips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ed what 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 and French F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696080" y="5638320"/>
            <a:ext cx="144792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267080" y="5943600"/>
            <a:ext cx="762120" cy="685800"/>
            <a:chOff x="4267080" y="5943600"/>
            <a:chExt cx="762120" cy="685800"/>
          </a:xfrm>
        </p:grpSpPr>
        <p:sp>
          <p:nvSpPr>
            <p:cNvPr id="298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863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70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337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63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75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90720" y="1244520"/>
            <a:ext cx="7162560" cy="4038480"/>
            <a:chOff x="990720" y="1244520"/>
            <a:chExt cx="7162560" cy="4038480"/>
          </a:xfrm>
        </p:grpSpPr>
        <p:sp>
          <p:nvSpPr>
            <p:cNvPr id="309" name=""/>
            <p:cNvSpPr/>
            <p:nvPr/>
          </p:nvSpPr>
          <p:spPr>
            <a:xfrm>
              <a:off x="990720" y="124452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15400" y="2958840"/>
              <a:ext cx="5710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Hooroo mean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 Myers</dc:creator>
  <dc:description>Created by Jerry Myers is 1998 for a class.</dc:description>
  <dc:language>en-US</dc:language>
  <cp:lastModifiedBy/>
  <cp:revision>0</cp:revision>
  <dc:subject/>
  <dc:title>Jeopardy</dc:title>
</cp:coreProperties>
</file>